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4763-39B4-42CB-A982-66B55366C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04D1-A6CE-45EF-BDE9-D07D45DDF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69C9-E952-47A2-97CB-B253AB89C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04C2-B0CC-4ACD-B86C-FDE4D662C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25BE-9A09-44FA-959F-956644C19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203D-1899-4B3D-9C5B-6DEA00870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BC76-FDA3-4CC7-84B1-A49DAE0F2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8F0A-2625-4574-8D34-CCE886B70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319A-AB42-4397-BD50-B8F8192A2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7867-F8C9-4775-ADEC-C01318F18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745F-19BF-4413-9450-E4E1C6BB1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8A50-1472-42C1-A3F9-D7D256C3E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257B-E860-4741-8563-23FD3A10C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9BDA-874E-4DA1-ABB2-7C1DC3E75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D98D4-B4EB-48F0-BC60-6D070FBB5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4D66-EAAA-4640-BED6-62FA46C4D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92A6-DA1B-4CC2-AE4A-011373A49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8D8E-282B-4F25-A8AD-625CD5CAB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7AA7-28A4-492B-8271-1FE21919F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B22F-4774-496D-B50F-2B8800875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6C93-F5E5-49E0-AABA-57C698514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1840-3221-4201-9EF3-BD1EA1719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556F-0259-473C-9C93-3BA80AF43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9F62-23CF-4EB9-BB3A-B857BB5F3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BFCA-F1ED-4BFB-B876-D207EFD17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75067-2012-46EC-8730-C36FBC0B0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8E4F-6959-4454-8338-B582A6378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4722-A964-4B0B-800D-8299A574B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E866-295B-42C4-801C-55DA5F4E9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0E1E-2173-435B-86BE-EFD07D934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66B1-F90C-4C62-B6A3-F0B1E5308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D921-E7D7-44FD-9F94-718B7819D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A308-8022-47A1-899A-FC6089201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74B4-E087-4A3D-8C0A-31099FB0E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04E5-B326-4C55-B7E5-1C0EDC148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256C-E45B-4BDC-B77B-952881DA8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C8E1-416B-42BB-BFD7-D1A6C2D19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D63A-F984-4120-B777-6B5DD518D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01C0-61BA-4D70-8713-E3ADFDE11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9646-60D4-458E-881B-7689C4D97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737E-8591-426A-86F6-75A44CF10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7EB3-FEE0-4685-B236-6559BECF4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C51B-022D-4696-A95D-7B547802E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57F1-D59F-4782-B822-47E926C7E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9EE0-A235-4844-96E7-062933B53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AEFF-1A62-46EA-BED8-31F0AE6F2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B9DD8-0D2F-4D15-B2B9-93BEBF3F4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398FD-8C51-4163-A7B1-CBD308AA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66DAA-DB22-4E9C-8DD9-12F898C0F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F678C-5763-499F-8B0B-D700BBE1F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1B07-B77B-4AC8-B0B9-3F99C653F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3FA6C-6A4A-4CC3-AC66-B234DF542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EAFAD-02A0-424C-AF07-F2B20CADA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FBD89-C432-4234-B189-FC70E3C65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B691D-F862-48E6-A5ED-04CDC8598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E716A-2024-46E2-8811-90F6D5ABC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61AC-B453-437C-A335-2F2302F4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5513-E770-4435-AA8C-6650C17DD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0A71-FE16-466A-9610-9AA1061F9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10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86" dur="500"/>
                                        <p:tgtEl>
                                          <p:spTgt spid="9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1"/>
                                        </p:tgtEl>
                                        <p:attrNameLst>
                                          <p:attrName>style.visibility</p:attrName>
                                        </p:attrNameLst>
                                      </p:cBhvr>
                                      <p:to>
                                        <p:strVal val="visible"/>
                                      </p:to>
                                    </p:set>
                                    <p:animEffect filter="slide(fromBottom)" transition="in">
                                      <p:cBhvr additive="repl">
                                        <p:cTn id="298" dur="500"/>
                                        <p:tgtEl>
                                          <p:spTgt spid="101"/>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302" dur="500"/>
                                        <p:tgtEl>
                                          <p:spTgt spid="10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2">
                                            <p:txEl>
                                              <p:pRg st="1" end="1"/>
                                            </p:txEl>
                                          </p:spTgt>
                                        </p:tgtEl>
                                        <p:attrNameLst>
                                          <p:attrName>style.visibility</p:attrName>
                                        </p:attrNameLst>
                                      </p:cBhvr>
                                      <p:to>
                                        <p:strVal val="visible"/>
                                      </p:to>
                                    </p:set>
                                    <p:animEffect filter="randombar(horizontal)" transition="in">
                                      <p:cBhvr additive="repl">
                                        <p:cTn id="307"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5"/>
                                        </p:tgtEl>
                                        <p:attrNameLst>
                                          <p:attrName>style.visibility</p:attrName>
                                        </p:attrNameLst>
                                      </p:cBhvr>
                                      <p:to>
                                        <p:strVal val="visible"/>
                                      </p:to>
                                    </p:set>
                                    <p:animEffect filter="slide(fromBottom)" transition="in">
                                      <p:cBhvr additive="repl">
                                        <p:cTn id="314" dur="500"/>
                                        <p:tgtEl>
                                          <p:spTgt spid="105"/>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18" dur="500"/>
                                        <p:tgtEl>
                                          <p:spTgt spid="10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2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7"/>
                                        </p:tgtEl>
                                        <p:attrNameLst>
                                          <p:attrName>style.visibility</p:attrName>
                                        </p:attrNameLst>
                                      </p:cBhvr>
                                      <p:to>
                                        <p:strVal val="visible"/>
                                      </p:to>
                                    </p:set>
                                    <p:animEffect filter="slide(fromBottom)" transition="in">
                                      <p:cBhvr additive="repl">
                                        <p:cTn id="330" dur="500"/>
                                        <p:tgtEl>
                                          <p:spTgt spid="107"/>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34" dur="500"/>
                                        <p:tgtEl>
                                          <p:spTgt spid="10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10"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1"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46" dur="500"/>
                                        <p:tgtEl>
                                          <p:spTgt spid="11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35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3"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2"/>
                                        </p:tgtEl>
                                        <p:attrNameLst>
                                          <p:attrName>style.visibility</p:attrName>
                                        </p:attrNameLst>
                                      </p:cBhvr>
                                      <p:to>
                                        <p:strVal val="visible"/>
                                      </p:to>
                                    </p:set>
                                    <p:animEffect filter="slide(fromBottom)" transition="in">
                                      <p:cBhvr additive="repl">
                                        <p:cTn id="358" dur="500"/>
                                        <p:tgtEl>
                                          <p:spTgt spid="112"/>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362" dur="5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3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4"/>
                                        </p:tgtEl>
                                        <p:attrNameLst>
                                          <p:attrName>style.visibility</p:attrName>
                                        </p:attrNameLst>
                                      </p:cBhvr>
                                      <p:to>
                                        <p:strVal val="visible"/>
                                      </p:to>
                                    </p:set>
                                    <p:animEffect filter="slide(fromBottom)" transition="in">
                                      <p:cBhvr additive="repl">
                                        <p:cTn id="374" dur="500"/>
                                        <p:tgtEl>
                                          <p:spTgt spid="114"/>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378" dur="500"/>
                                        <p:tgtEl>
                                          <p:spTgt spid="11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38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6"/>
                                        </p:tgtEl>
                                        <p:attrNameLst>
                                          <p:attrName>style.visibility</p:attrName>
                                        </p:attrNameLst>
                                      </p:cBhvr>
                                      <p:to>
                                        <p:strVal val="visible"/>
                                      </p:to>
                                    </p:set>
                                    <p:animEffect filter="slide(fromBottom)" transition="in">
                                      <p:cBhvr additive="repl">
                                        <p:cTn id="390" dur="500"/>
                                        <p:tgtEl>
                                          <p:spTgt spid="116"/>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9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2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40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2"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408" dur="500"/>
                                        <p:tgtEl>
                                          <p:spTgt spid="122">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2">
                                            <p:txEl>
                                              <p:pRg st="1" end="1"/>
                                            </p:txEl>
                                          </p:spTgt>
                                        </p:tgtEl>
                                        <p:attrNameLst>
                                          <p:attrName>style.visibility</p:attrName>
                                        </p:attrNameLst>
                                      </p:cBhvr>
                                      <p:to>
                                        <p:strVal val="visible"/>
                                      </p:to>
                                    </p:set>
                                    <p:animEffect filter="randombar(horizontal)" transition="in">
                                      <p:cBhvr additive="repl">
                                        <p:cTn id="41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7"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8"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419" dur="500"/>
                                        <p:tgtEl>
                                          <p:spTgt spid="12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424"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30"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1"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3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3"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4"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38" dur="500"/>
                                        <p:tgtEl>
                                          <p:spTgt spid="133">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3">
                                            <p:txEl>
                                              <p:pRg st="2" end="2"/>
                                            </p:txEl>
                                          </p:spTgt>
                                        </p:tgtEl>
                                        <p:attrNameLst>
                                          <p:attrName>style.visibility</p:attrName>
                                        </p:attrNameLst>
                                      </p:cBhvr>
                                      <p:to>
                                        <p:strVal val="visible"/>
                                      </p:to>
                                    </p:set>
                                    <p:animEffect filter="randombar(horizontal)" transition="in">
                                      <p:cBhvr additive="repl">
                                        <p:cTn id="44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450" dur="500"/>
                                        <p:tgtEl>
                                          <p:spTgt spid="1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45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9"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4"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46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9"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5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469"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2"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3"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76" dur="500"/>
                                        <p:tgtEl>
                                          <p:spTgt spid="15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81"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2"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4"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5"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488" dur="500"/>
                                        <p:tgtEl>
                                          <p:spTgt spid="164">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49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7"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8"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49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9"/>
                                        </p:tgtEl>
                                        <p:attrNameLst>
                                          <p:attrName>style.visibility</p:attrName>
                                        </p:attrNameLst>
                                      </p:cBhvr>
                                      <p:to>
                                        <p:strVal val="visible"/>
                                      </p:to>
                                    </p:set>
                                    <p:animEffect filter="fade" transition="in">
                                      <p:cBhvr additive="repl">
                                        <p:cTn id="506" dur="2000"/>
                                        <p:tgtEl>
                                          <p:spTgt spid="169"/>
                                        </p:tgtEl>
                                      </p:cBhvr>
                                    </p:animEffect>
                                    <p:anim calcmode="lin" valueType="num">
                                      <p:cBhvr additive="repl">
                                        <p:cTn id="507" dur="2000" fill="hold"/>
                                        <p:tgtEl>
                                          <p:spTgt spid="169"/>
                                        </p:tgtEl>
                                        <p:attrNameLst>
                                          <p:attrName>r</p:attrName>
                                        </p:attrNameLst>
                                      </p:cBhvr>
                                      <p:tavLst>
                                        <p:tav tm="0">
                                          <p:val>
                                            <p:strVal val="720"/>
                                          </p:val>
                                        </p:tav>
                                        <p:tav tm="100000">
                                          <p:val>
                                            <p:strVal val="0"/>
                                          </p:val>
                                        </p:tav>
                                      </p:tavLst>
                                    </p:anim>
                                    <p:anim calcmode="lin" valueType="num">
                                      <p:cBhvr additive="repl">
                                        <p:cTn id="508" dur="2000" fill="hold"/>
                                        <p:tgtEl>
                                          <p:spTgt spid="169"/>
                                        </p:tgtEl>
                                        <p:attrNameLst>
                                          <p:attrName>ppt_h</p:attrName>
                                        </p:attrNameLst>
                                      </p:cBhvr>
                                      <p:tavLst>
                                        <p:tav tm="0">
                                          <p:val>
                                            <p:fltVal val="0"/>
                                          </p:val>
                                        </p:tav>
                                        <p:tav tm="100000">
                                          <p:val>
                                            <p:strVal val="#ppt_h"/>
                                          </p:val>
                                        </p:tav>
                                      </p:tavLst>
                                    </p:anim>
                                    <p:anim calcmode="lin" valueType="num">
                                      <p:cBhvr additive="repl">
                                        <p:cTn id="509" dur="2000" fill="hold"/>
                                        <p:tgtEl>
                                          <p:spTgt spid="1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Margaret Smith</cp:lastModifiedBy>
  <dcterms:modified xsi:type="dcterms:W3CDTF">2010-08-31T03:44:12Z</dcterms:modified>
  <cp:revision>4</cp:revision>
  <dc:subject/>
  <dc:title>Slide 1</dc:title>
</cp:coreProperties>
</file>